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444600"/>
            <a:ext cx="4565520" cy="3900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028EA-83F0-4590-A60C-10097416D1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B51A7-C70B-4EC3-B288-B53C0F9696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7D28-E49D-4A96-BC9A-5C0F12434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AF55-98AD-4DC5-A87A-8F11DFC4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B691-ED64-4867-993C-4F33E2F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48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48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8A7F-E270-41D3-A90C-6ADD67E91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180D5-A4E9-4979-8207-A00934D92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38C4F-2EB8-41B5-AF79-D0C19F59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B4F53-0D72-4EE2-884D-4335A1C6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8F294-74AE-4ED1-87E4-A70683C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4991-82CD-47D7-8167-C8BD5BC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66400"/>
            <a:ext cx="8223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CF93-6F4F-4CA0-B50A-2A1D8E3A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F862-DCDF-41F6-9F43-A3CEBA74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729B-DF5D-4D00-B023-0A611B2C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04494-819E-42D9-85B7-F24527F3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74C6-C0C8-48BD-9409-5166376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53A2D-D933-44EE-A873-376C458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0D2C0-EE30-414B-A603-67C0AB3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E1D5-DBC2-4BE9-88BA-9BA54F523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D0A-9C71-4439-8867-72C2A10F3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097-D103-44B4-B018-666CCAF7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0CD1-DDF9-4D69-B5FA-86E6D38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9CA-3E71-4FDA-8AE1-A3A7AA5F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756-7FB5-4B46-9FA5-25AF4223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8299-A825-40A3-903E-63848EE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66400"/>
            <a:ext cx="8223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334-B89E-472E-B794-1A46A167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12B7-DD67-4DCD-9235-6955077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1454-60ED-4B66-A349-3DBAEF83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EA1-4993-4C5B-8A20-C8C79FAE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69F-3778-459F-A37A-9FD3533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3EF3-0AB5-45F7-9D27-394D818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48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776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48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776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4EA7-5D91-48E4-AFAA-D579F9773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06525-13F2-44E3-ACEF-88BD68A4E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A0A45-0CA7-4C73-B421-149239D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2008E-6A1B-4147-8B4E-9E69097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7DE4-3353-4968-8FB4-ADBF60F1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A313-70D1-4EF9-9ED0-CD48E11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30CAF-382E-48E0-8B5A-C9461561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66400"/>
            <a:ext cx="8223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A1ACD-959D-4116-8679-21BBD55C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5E5FD-8350-466F-917C-26C0E6FF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75442-7C1F-44CB-8708-6B4E792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72516-6CAC-4DF4-9E3E-C868EEAA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D53A5-2D97-4677-A46A-2276441D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92348-DCA4-49A6-9F7E-458300E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748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7760" y="19350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748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7760" y="4224600"/>
            <a:ext cx="26474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98DA6-0811-4D43-B757-8CD0BD39F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EDE3-B8F5-4C16-B8C5-D6965622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66400"/>
            <a:ext cx="822312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7250-909D-4B8E-93AD-9CACC243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CE7A-B673-41B2-986A-D3DB9253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42246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78F1-11B0-4F19-84A5-1038016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935000"/>
            <a:ext cx="4012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4600"/>
            <a:ext cx="82231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2AAF-28DD-4427-82C8-7B1A2A0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52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3666AA-A8E3-424D-9C64-B3CE1D5F12B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4240" cy="641520"/>
            <a:chOff x="-19080" y="203040"/>
            <a:chExt cx="9174240" cy="64152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0480" cy="641520"/>
              <a:chOff x="-19080" y="203040"/>
              <a:chExt cx="9150480" cy="64152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8160" cy="6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4240" cy="555480"/>
              <a:chOff x="-19080" y="247680"/>
              <a:chExt cx="9174240" cy="55548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8400" cy="55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4240" cy="641520"/>
            <a:chOff x="-19080" y="203040"/>
            <a:chExt cx="9174240" cy="64152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0480" cy="641520"/>
              <a:chOff x="-19080" y="203040"/>
              <a:chExt cx="9150480" cy="64152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8160" cy="6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4240" cy="555480"/>
              <a:chOff x="-19080" y="247680"/>
              <a:chExt cx="9174240" cy="55548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8400" cy="55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0C209E-9839-4F94-9778-50C524FB4CEA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4240" cy="641520"/>
            <a:chOff x="-19080" y="203040"/>
            <a:chExt cx="9174240" cy="64152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0480" cy="641520"/>
              <a:chOff x="-19080" y="203040"/>
              <a:chExt cx="9150480" cy="64152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8160" cy="6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4240" cy="555480"/>
              <a:chOff x="-19080" y="247680"/>
              <a:chExt cx="9174240" cy="55548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8400" cy="55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3F0F33-5718-4339-AF42-4456F27C5431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79974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312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31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520"/>
            <a:ext cx="60300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6510AA-B1AB-40F9-A9E0-3E174C138438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bdf7fd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5810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2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ru-RU" sz="4200" spc="-1" strike="noStrike">
                <a:solidFill>
                  <a:srgbClr val="ff0000"/>
                </a:solidFill>
                <a:latin typeface="Calibri"/>
              </a:rPr>
              <a:t>краевой форум профилактологов </a:t>
            </a:r>
            <a:br>
              <a:rPr sz="3600"/>
            </a:br>
            <a:br>
              <a:rPr sz="3600"/>
            </a:b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«Красноярье без наркотиков»</a:t>
            </a:r>
            <a:br>
              <a:rPr sz="38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2228b"/>
                </a:solidFill>
                <a:latin typeface="Calibri"/>
              </a:rPr>
              <a:t>тема: «Зависимость: профилактика, помощь и сопровождение» </a:t>
            </a:r>
            <a:br>
              <a:rPr sz="3600"/>
            </a:br>
            <a:br>
              <a:rPr sz="3600"/>
            </a:br>
            <a:r>
              <a:rPr b="1" i="1" lang="ru-RU" sz="2400" spc="-1" strike="noStrike">
                <a:solidFill>
                  <a:srgbClr val="22228b"/>
                </a:solidFill>
                <a:latin typeface="Calibri"/>
              </a:rPr>
              <a:t>г. Красноярск </a:t>
            </a:r>
            <a:br>
              <a:rPr sz="2400"/>
            </a:br>
            <a:r>
              <a:rPr b="1" i="1" lang="ru-RU" sz="2400" spc="-1" strike="noStrike">
                <a:solidFill>
                  <a:srgbClr val="22228b"/>
                </a:solidFill>
                <a:latin typeface="Calibri"/>
              </a:rPr>
              <a:t>04 декабря 2024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77760" y="115920"/>
            <a:ext cx="99396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19:05Z</dcterms:created>
  <dc:creator>wizard</dc:creator>
  <dc:description/>
  <dc:language>en-US</dc:language>
  <cp:lastModifiedBy>Отделение профилактики</cp:lastModifiedBy>
  <dcterms:modified xsi:type="dcterms:W3CDTF">2024-12-04T00:29:27Z</dcterms:modified>
  <cp:revision>229</cp:revision>
  <dc:subject/>
  <dc:title>Слайд 1</dc:title>
</cp:coreProperties>
</file>