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247-ABBF-45A4-9E6D-E04DBC76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4A5-E7DD-46B6-B660-0EF88799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5DB-60A4-4EF0-B3AC-DA19C501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E92-2C0A-473C-BD51-54950960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BA6B-5689-4268-A68A-71139C59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5EE0-3E34-48E0-8E4C-3C9BFD60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C7F5-A0C6-4CD6-BC06-CE696EFF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4304-9636-48B9-B7B0-EDBE96AC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F0E1-1BC3-4C55-9C7C-29C8D5A5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73A5-BA86-4CE9-834F-4DBCF694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C72-BAA2-4680-A252-1B2EDA85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151-1130-4941-BC9A-48A299B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6FCB-5D0A-4AC0-86EF-72C8B738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BE47-7F52-438E-97FD-AA02A7B5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B5D6-704A-46AA-B9AB-9012F379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BFDC-BA83-41AF-A48E-6198FDD0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7397-F7EC-42BD-AA36-93548D2C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EABD7-BC84-4946-997A-5964CB48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514A-9E5E-458B-9ADD-117D48C0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0E08A-C4ED-4D48-9632-50B8D9D7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B693-5CA7-40A4-BA30-5F4D6413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3254-EBF5-4C01-B317-AFC3E838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5CF-6540-4A5E-A1ED-12714ED4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6F5A-1DE2-436B-AE21-9C8E4102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2D42-DC97-4C72-AAAE-1A857FDE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3A2F7-679C-478C-893F-E594F763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B027-3C2E-46A2-A0DC-CAC17F45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50FB-7097-4AC5-BB80-D32748DB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EAEAA-049D-49EB-8EB7-D9911459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36E0-5345-4C71-85B8-E7A5C4B9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22D0-E251-485A-981E-4E8F4928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25A2C-31A2-47AF-8CB9-03D7D0B8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4F9E-7D5B-470A-8BAA-8C05C980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7A7-E9C5-4911-B6DA-6EDC7CAF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53372-EC42-4618-AA07-6590E216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33AF6-947A-4195-931B-7A8FC77A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B27F3-D2A9-4562-9BE0-BF00E267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FDC41-5E9C-48F8-86A6-E4DEDE4D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61BAB-01AF-40CF-8A31-57E9C7E8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8263-93D1-4BE8-BE9E-4B2B5F30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1AFEA-FFBA-45A3-B401-ABB080DB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A1CA1-A714-4393-8E52-5539286E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ABB31-D70B-4700-8700-FD3918E0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F79-34B3-41CD-BD66-2545A882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331-2F93-48F4-B95A-9D062B6A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7BF-1A21-4E4E-BBA5-8BBC976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D4D-1559-4ACE-9F17-2819DB52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E59-525A-4DE6-A6B9-2ED2FFB8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A958-C083-41C9-8079-D21F65A6459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5C72-FF2B-468A-9CC2-F8C7E1D2F0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3E87-DC5F-4F49-8B5C-C6134A5B067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415C-1588-43E0-B4DB-CC6F7A3AEFD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68360" y="1700280"/>
            <a:ext cx="84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Microsoft YaHei"/>
              </a:rPr>
              <a:t>МЕДИЦИНСКАЯ И СОЦИАЛЬНАЯ РЕАБИЛИТАЦИЯ БОЛЬНЫХ НАРКОМАНИЕЙ В СОВРЕМЕННЫХ УСЛОВИЯ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робицина Татьяна Валерьевн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-р мед. наук, профессор кафедр теории и методики социальной работы ЮИ СФУ, психиатрии и наркологии с курсом ПО КрасГМУ им. проф. В.Ф. Войно-Ясенецког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101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НЫЙ ПЛАН-СХЕМА ОДНОГО ДНЯ ПРОГРАММЫ МЕДИЦИНСКОЙ РЕАБИЛИТАЦИИ В УСЛОВИЯХ ДНЕВНОГО СТАЦИОНА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4560" y="1752480"/>
            <a:ext cx="8461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8:45 – 9:00 Утренняя встреча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9:00 – 9:45 ЗАВТРАК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9:45 –10:00 Уборка столовой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0:00 – 10:15 Составление плана на день (тема дня)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0:15 – 11:10 Беседа с врачом (по показаниям лечебные мероприятия)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1:20 – 13:00 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УТРЕННЕЕ СОБРАНИЕ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Работа с психологом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(психотерапевтом), 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специалистом по социальной работе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(социальным работником): представление: не забудь ответить на вопросы: «Кто ты?», «Зачем ты здесь?»; новости дня: новости «терапевтического сообщества», дневного стационара; личные новости, новости из внешнего мира, международные новости, объявления; игра-разминка: «Предложи игру» или «Дежурная игра» или др.; 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СИХОЛОГИЧЕСКИЙ ТРЕНИНГ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; шеринг (анализ состояния, обсуждение результатов встречи, ответы на вопросы)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3:00 – 13:15 Перерыв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3:15 – 13:50 Работа по заданию (индивидуально)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3:50 – 14:00 Подготовка к обеду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4:00 – 14:45 ОБЕД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4:45 – 15:00 Уборка столовой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5:00 – 17:15 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КОМПЛЕКС МЕРОПРИЯТИЙ ПО ПОКАЗАНИЯМ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: терапевтические процедуры (психотерапия, физиотерапия, ароматерапия, пр.); спортивные занятия; арт-терапия; индивидуальная работа с психологом или специалистом по социальной работе (социальным работником)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7:15 – 18:00 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ВЕЧЕРНЕЕ СОБРАНИЕ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: как прошел твой день?; обсуждение чувств дня; анализ состояния; задание на дом;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работа с родственниками больных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в группе или индивидуально (утреннее или вечернее время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80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е технологии лечебно-реабилитационной помощи больным наркоман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9280" y="1773360"/>
          <a:ext cx="8856720" cy="1726920"/>
        </p:xfrm>
        <a:graphic>
          <a:graphicData uri="http://schemas.openxmlformats.org/drawingml/2006/table">
            <a:tbl>
              <a:tblPr/>
              <a:tblGrid>
                <a:gridCol w="447840"/>
                <a:gridCol w="2289240"/>
                <a:gridCol w="6119640"/>
              </a:tblGrid>
              <a:tr h="77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онны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оздание реабилитационного учреждения и определение функциональных (производственных) обязанностей его сотрудников. 2.Создание РС. 3.Внедрение в практику периодов и этапов реабилитации. 4.Организация реабилитационной наркологической бригады (команды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агностически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Клинико-психопатологическое обследование. 2. Психологическое обследование (тестирование, ретестирование, проверка ретестовой надежности). 3. Соматическое обследование. 4. Биохимическое, нейрохимическое, электрофизиологическое, психофизиологическое, молекулярно-генетическое обследование. 5. Социологическое обслед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79280" y="3573360"/>
          <a:ext cx="8856720" cy="928800"/>
        </p:xfrm>
        <a:graphic>
          <a:graphicData uri="http://schemas.openxmlformats.org/drawingml/2006/table">
            <a:tbl>
              <a:tblPr/>
              <a:tblGrid>
                <a:gridCol w="444600"/>
                <a:gridCol w="2292480"/>
                <a:gridCol w="6119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рапевтическ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лечебные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Фармакотерапия. 2. Физиотерапия (сауна, массаж, гидротерапия, иглорефлексотерапия и др.). 3. Электротерапия (электросон, электрофорез, гальванический воротник, УВЧ и др.). 4. Лечебная физкультура (йоготерапия, ушу-терапия и др.). 5. Иммунотерапия. 6. Ароматерапия и фитотерапия. 7. Апитерапия. 8. БАД. 9. Диетотерапия и д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79280" y="4502160"/>
          <a:ext cx="8856720" cy="1098720"/>
        </p:xfrm>
        <a:graphic>
          <a:graphicData uri="http://schemas.openxmlformats.org/drawingml/2006/table">
            <a:tbl>
              <a:tblPr/>
              <a:tblGrid>
                <a:gridCol w="447840"/>
                <a:gridCol w="2289240"/>
                <a:gridCol w="6119640"/>
              </a:tblGrid>
              <a:tr h="109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сихо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рапевтические, коррекционны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ые направления: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) динамическое; б) когнитивно-поведенческое; в) гуманистическое; г) системное; д) экзистенциональное; е) работа с семьей боль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тодики, техники, упражнения, программы: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психодрамма, гештальттерапия, НЛП, трансактный анализ, голотропная терапия, логотерапия, «12-шагов», супервизорство и др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79280" y="5600880"/>
          <a:ext cx="8856720" cy="626760"/>
        </p:xfrm>
        <a:graphic>
          <a:graphicData uri="http://schemas.openxmlformats.org/drawingml/2006/table">
            <a:tbl>
              <a:tblPr/>
              <a:tblGrid>
                <a:gridCol w="438120"/>
                <a:gridCol w="2298960"/>
                <a:gridCol w="6119640"/>
              </a:tblGrid>
              <a:tr h="62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рапия сред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условиях: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билитационных амбулаторий и стационаров (центров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рапевтических сообществ (ТС); общин, монастырей, мечетей и пр.;  «домов на полпути», реабилитационных общежитий; семьи; сообществ АН, АА и др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80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е технологии лечебно-реабилитационной помощи больным наркоманией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продолжение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9280" y="2454120"/>
          <a:ext cx="8856720" cy="2159280"/>
        </p:xfrm>
        <a:graphic>
          <a:graphicData uri="http://schemas.openxmlformats.org/drawingml/2006/table">
            <a:tbl>
              <a:tblPr/>
              <a:tblGrid>
                <a:gridCol w="432000"/>
                <a:gridCol w="2376360"/>
                <a:gridCol w="6048360"/>
              </a:tblGrid>
              <a:tr h="90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я досуг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Просмотр кинофильмов (преимущественно тематических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Чтение литературы, прессы. 3. Посещение конфессиональных учрежден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Прогулки. 5. Спортивные занятия, игры (посещение спортивных секций, боулинг, аэробика и пр.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рт-терапи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Рисунок, живопись. 2. Лепка. 3. Резьба по дереву. 4. Музыкотерап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Аудиовизуальная терапия. 6. Танцы. 7. Драмотерапия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ио-терапевтически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Приобретение профессии, учеба. 2. Трудоустройство. 3. Юридическая помощь, социальное сопровождение. 4. Психотерапевтическая поддержка семь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79280" y="4653000"/>
          <a:ext cx="8856720" cy="960480"/>
        </p:xfrm>
        <a:graphic>
          <a:graphicData uri="http://schemas.openxmlformats.org/drawingml/2006/table">
            <a:tbl>
              <a:tblPr/>
              <a:tblGrid>
                <a:gridCol w="432000"/>
                <a:gridCol w="2376360"/>
                <a:gridCol w="6048360"/>
              </a:tblGrid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ьютитерапи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Косметикотерапия. 2. Имиджтерап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уховно-ориентированны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Религия (библиотерапия и др.). 2. Этика и эстетика жизни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Гуманизм, как форма жизненной практи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79280" y="1844640"/>
          <a:ext cx="8856720" cy="609480"/>
        </p:xfrm>
        <a:graphic>
          <a:graphicData uri="http://schemas.openxmlformats.org/drawingml/2006/table">
            <a:tbl>
              <a:tblPr/>
              <a:tblGrid>
                <a:gridCol w="438120"/>
                <a:gridCol w="2370240"/>
                <a:gridCol w="60483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рапия занятостью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Самообслуживание. 2. Трудотерапия. 3. Учеба. 4. Спорт. 5. Кружки по интересам и д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ояние наркологической социальной реабилитации и ресоциализации в Красноярском кра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4560" y="1773360"/>
            <a:ext cx="824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роприятиями по социальной реабилитации в 2023 году охвачено 70,8% реабилитантов (2020 год – 72%; 2021 год – 98%; 2022 год – 67,1%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число больных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ркоманией, находящих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ремиссии от 1 года до 2 л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на 100 больных среднегодового контингента составило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3,0%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; число больных наркоманией, находящихся в ремиссии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выше 2 лет - 11,4%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а специальная «платформа» в социальной сети «ВКонтакте» -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бщество «Вероятность - 24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ый проект в области содействия занятости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цам, успешно завершившим программу медицинской и социальной реабилитации и находящимся в стадии длительной ремиссии «Береги себя для жизни!» (КГКУ «Центр занятости населения г. Красноярска» -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мощь получили 84 человек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ЦСОН предоставляются социальные услуги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жданам, признанным нуждающимися в социальном обслуживании в связи наличием внутрисемейного конфликта (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 297 случае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краевом бюджете на обеспечение деятельности специализированных центров социальной реабилитации и ресоциализации наркозависимых лиц на период 2022-2024 годы предусмотрены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ссигнования в сумме 8,9 млн. рублей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оступило для прохождения социальной реабилитации в АНО «Ковчег» в 2022 году 6 человек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ГБУ СО «Красноярский центр социальной адаптации лиц, освобожденных из мест лишения свободы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1.04.2023 реализуе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илотный проект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организации социальной реабилитации лиц, прошедших курс лечения от нарком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остоянию на 01.01.2024 осуществляют деятельность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7 негосударственных организаци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специализирующихся на предоставлении услуг наркозависимым лиц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тивно-правовая база реабилитацион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 наркотических средствах и психотропных веществах : Федеральный закон РФ от 08.01.1998 г. № 3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 основах социального обслуживания граждан в Российской Федерации : Федеральный закон от 28.12.2013 № 442-ФЗ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атегия государственной антинаркотической политики Российской Федерации на период до 2030 года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он Красноярского края «О профилактике алкоголизма, наркомании и токсикомании в Красноярском крае» от 19.12.2013 г № 5-198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каз Минздрава России от 30.12.2015 №1034н «Об утверждении Порядка оказания медицинской помощи по профилю «психиатрия–наркология» и Порядка диспансерного наблюдения за лицами с психическими расстройствами и (или) расстройствами поведения, связанными с употреблением психоактивных веществ»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каз Минздрава РФ № 208н, Минтруда РФ № 432н от 03.05.2023 «Об утверждении Порядка прохождения больными наркоманией медицинской и социальной реабилитации»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циональный стандарт ГОСТ Р 54990-2018 «Реабилитационные социальные услуги лицам, имеющим опыт злоупотребления наркотическими средствами, психотропными веществами и алкоголем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ормативно-правовые изменения 2023 год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752480"/>
            <a:ext cx="8820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едеральный закон «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 внесении изменений в статью 54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едерального закона «О наркотических средствах и психотропных веществах» от 05.12.2022 N 504-ФЗ (вступил в силу 01.09.2023) конкретизировал положения о социальной реабилитац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едеральный закон «О наркотических средствах и психотропных веществах» от 08.01.1998 N 3-ФЗ (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п. 5-10 ст.54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рядок прохождения больными наркоманией медицинской и социальной реабилитаци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утвержден приказом Минздрава РФ N 208Н, Минтруда РФ N 432Н от 03.05.202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работана «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рожная кар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» по организации социальной реабилитации граждан, больных наркоманией, согласно Федеральному закону от 08.01.1998 3-ФЗ «О наркотических средствах и психотропных веществах»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2023-2024 г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ядок прохождения больными наркоманией медицинской и социальной реабилитац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знание больных наркоманией нуждающимися в социальном обслуживании осуществляетс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трудниками организаций социального обслуживания на этапе медицинской реабилитации в медицинских организация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ая реабилитация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яется после получения больными наркоманией наркологической помощи и включает в себ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едоставление социально-психологических услуг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предусматривающих оказание помощи в коррекции психологического состояния больных наркоманией для адаптации в социальной среде, в том числе оказание психологической помощи анонимно с использованием телефона довер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едоставление социально-педагогических услуг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направленных на профилактику отклонений в поведении и развитии личности больных наркоманией, формирование у них позитивных интересов (в том числе в сфере досуга), организацию их досуга, оказание помощи семье в воспитании дете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едоставление социально-трудовых услуг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направленных на оказание помощи в трудоустройстве больных наркоманией и в решении других проблем, связанных с их трудовой адаптацие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едоставление социально-правовых услуг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направленных на оказание помощи в получении юридических услуг, в том числе бесплатно, в защите прав и законных интересов получателей социальных услуг - больных наркоманией, в восстановлении и оформлении утраченных докум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казание государственной социальной помощи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льным наркоманией на основании социального контрак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ядок прохождения больными наркоманией медицинской и социальной реабилитаци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продолжение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66640" y="1752480"/>
            <a:ext cx="846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Услуги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по социальной реабилитации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предоставляются признанным нуждающимися в социальном обслуживании больным наркоманией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в полустационарной форме социального обслуживания в соответствии с законодательством о социальном обслуживании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циальная реабилитация может осуществляться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в полустационарной организации социального обслуживания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структурном подразделении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полустационарной организации социального обслуживания, а также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на базе профильных некоммерческих организаций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, обладающих необходимыми материально-техническими и кадровыми ресурсами и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включенных в реестр поставщиков социальных услуг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убъекта Российской Федерации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В структуру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полустационарной организации социального обслуживания или структурного подразделения полустационарной организации социального обслуживания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могут включаться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помещения для проведения индивидуальных и групповых занятий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библиотека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зал лечебной физкультуры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зал для занятий на тренажерах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чебные классы, студии, досуговый комплекс для просмотра тематических фильмов, телепередач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лечебно-производственные (трудовые) мастерские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УЕМЫЕ ШТАТНЫЕ НОРМАТИВЫ ОТДЕЛЕНИЯ СОЦИАЛЬНОЙ РЕАБИЛИТ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62080" y="1752480"/>
          <a:ext cx="6810480" cy="4413240"/>
        </p:xfrm>
        <a:graphic>
          <a:graphicData uri="http://schemas.openxmlformats.org/drawingml/2006/table">
            <a:tbl>
              <a:tblPr/>
              <a:tblGrid>
                <a:gridCol w="528480"/>
                <a:gridCol w="2881440"/>
                <a:gridCol w="3400560"/>
              </a:tblGrid>
              <a:tr h="4971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 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именование долж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личество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2919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долж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2919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меститель (помощник) руководи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долж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29232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иалист по социальной рабо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на 60 получателей социаль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2919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циальный работ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на 60 получателей социаль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9860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сихолог (психолог в социальной сфер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на 60 получателей социаль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2919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циальный педаг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на 30 получателей социаль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29232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ор по трудовой тера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на 60 получателей социаль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9680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ор по лечебной физкультур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на 30 получателей социальных услуг, имеющих показания к данным занят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2919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рисконсуль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на 60 получателей социаль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29232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борщик служебных помещ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долж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2919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стелянш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долж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2919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лопроизвод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долж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496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рганизации социальной реабилитации больных наркоманией рекоменду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 базе полустационарной организац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циального обслуживания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здать отделение социальной реабилитации больных наркомани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штатное расписание утвердить согласно рекомендуемым штатным нормативам отделения социальной реабилитации в соответствии с приложением к Порядку прохождения больными наркоманией медицинской и социальной реабилит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твердить положение об отделен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циальной реабилитации больных наркомание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лючить соглашение между полустационарной организацией социального обслуживан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на базе которой создано отделение социальной реабилитации больных наркоманией,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медицинской организаци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имеющей лицензию на осуществление медицинской деятельности, предусматривающую работы (услуги) по профилю «психиатрия-наркология»,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ключи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него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ложения о нахождении специалистов отделения на территории указанной медицинской организации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и графиках их работ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нять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ответствующие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гламенты межведомственного взаимодейств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жду органами государственной власти субъектов Российской Федерации, осуществляющими государственное управление в сфере социальной защиты населения, образования, здравоохранения, занятости, а также органами по делам молодежи, внутренних де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абилитация больных наркомание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лекс мероприятий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дицинского, психологического и социального характера,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правленных н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ное или частичное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сстановление наруше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следствие потребления наркотических средств или психотропных веществ без назначения врача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ункци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пораженного органа либо системы организма и (или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енсацию утраченных функци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а также максимально возможное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сстановление и (или) формирование социальных навыков и навыков психологической устойчиво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3" descr="image008_66"/>
          <p:cNvPicPr/>
          <p:nvPr/>
        </p:nvPicPr>
        <p:blipFill>
          <a:blip r:embed="rId1"/>
          <a:stretch/>
        </p:blipFill>
        <p:spPr>
          <a:xfrm>
            <a:off x="574560" y="3284640"/>
            <a:ext cx="80010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блемные аспек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000" y="1844640"/>
            <a:ext cx="8567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рактовка понятия социальной реабилитации используется в соответствии со Стратегией государственной антинаркотической политики Российской Федерации на период до 2030 года и Федеральным законом «Об основах системы профилактики правонарушений в Российской Федерации» от 23.06.2016 N 182-ФЗ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дставленный перечень мероприяти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предлагаемых к реализации в рамках оказания социальных услуг, шире и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хватывает ресоциализацию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содержание деятельности выходит за пределы собственно социальной реабилит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ключен далеко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лный перечень социальных услуг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которые предусмотрены «ГОСТ Р 54990-2018. Национальный стандарт Российской Федерации. Реабилитационные социальные услуги лицам, имеющим опыт злоупотребления наркотическими средствами, психотропными веществами и алкоголем», утвержденным приказом Росстандарта от 8 августа 2018 г. № 468-ст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казание услуг по социальному обслуживанию в полустационарной форме в отношении больных наркоманией, прошедших лечение –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луоткрытая реабилитационная терапевтическая сред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сурсное кадровое и материально-техническое обеспечени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ятельности по социальной реабилитации в учреждениях социального обслуживан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68360" y="1700280"/>
            <a:ext cx="84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Microsoft YaHei"/>
              </a:rPr>
              <a:t>МЕДИЦИНСКАЯ И СОЦИАЛЬНАЯ РЕАБИЛИТАЦИЯ БОЛЬНЫХ НАРКОМАНИЕЙ В СОВРЕМЕННЫХ УСЛОВИЯ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робицина Татьяна Валерьевн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-р мед. наук, профессор кафедр теории и методики социальной работы ЮИ СФУ, психиатрии и наркологии с курсом ПО КрасГМУ им. проф. В.Ф. Войно-Ясенецког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абилитация или неоабилитация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4200" y="1628280"/>
            <a:ext cx="8318520" cy="46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абилитац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восстановление утраченных в процессе заболевания возможностей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оабилитац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а на формирование более зрелой личности через развитие новых личностных качеств и способнос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ая неоабилитационная идея -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орсированное развит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ойств психологического здоровья –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нтинаркотической устойчив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начимые личностные качества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личностная идентификация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жизненные цели и мотивы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выки ответственного выбора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утренний локус-контроль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ндивидуально-личностные ресурсы для реализации жизненного сценария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137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абилитационная работа с больны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75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Направлена на формирование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 больного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отивации на отказ от употреблени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сихоактивных веществ, включение в неоабилитационный процесс, поскольку требуется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оррекция и развитие структуры личност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приобретение им социальной компетентности,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формирование социально приемлемых поведенческих навык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осстановление семейных отношени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коррекция взаимоотношений с основными значимыми другими лицами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Обеспечение продолжения образования, развития трудовых навыков, правовой защиты и социальной поддержк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для реализации долговременного воздержания от приема психоактивных вещест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едицинская реабилитаци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4920" y="1752480"/>
            <a:ext cx="871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плекс мероприятий медицинского и психологического характер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равленных на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ное или частично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сстановление нарушенных и (или) компенсацию утраченных функци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раженного органа либо системы организма, поддержание функций организма в процессе завершения остро развившегося патологического процесса или обострения хронического патологического процесса в организме, а также на предупреждение, раннюю диагностику и коррекцию возможных нарушений функций поврежденных органов либо систем организма,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упрежд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снижение степени возможно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валид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жизн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хранение работоспособнос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циента и ег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циальную интеграцию в общ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оциальная реабилитация больных наркоманией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4000" y="1844640"/>
            <a:ext cx="8712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овокупность мероприятий социального и психологического характер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осуществляемых в соответствии с законодательством Российской Федерации о наркотических средствах и психотропных веществах, профилактике правонарушений и о социальной помощи и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направленных на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ное или частичное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осстановление социальных связей и функций, утраченных вследствие потребления наркотиков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пп. «ж» п. 4 Стратегии 2030), а также в соответствии с законодательством Российской Федерации о социальном обслуживани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есоциализ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915920"/>
            <a:ext cx="8569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омплекс мероприятий (услуг)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существляемых в соответствии с законодательством Российской Федерации о профилактике правонарушений и о социальной помощи и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направленных на восстанов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у наркопотребителей утраченных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оциально полезных связ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крепление позитивных моделей поведения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ценностных установок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а также на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одейств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ким лицам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лучении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авовой и социальной помощ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помощи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 трудоустройств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675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ояние наркологической медицинской реабилитации в Красноярском крае (на 01.01.202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60 реабилитационных коек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круглосуточного пребывания (фактически функционировало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30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 сентября 2023 г.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– 35 коек)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- 25 коек отделения медицинской реабилитации КГБУЗ «Красноярский краевой наркологический диспансер №1» находились в состоянии реконструкции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в систему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едицинской реабилитации больных наркологического профиля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включены все государственные учреждения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здравоохранения, оказывающие лицензированную помощь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о профилю «психиатрия-наркология»: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3 диспансера, районные и городские больницы муниципальных образований края (со второго полугодия 2022 года организована работа отделения амбулаторной медицинской реабилитации на базе КНД №1 в г. Красноярске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оля включенных в стационарные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еабилитационные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ограммы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составила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2,97%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(2022 г. – 2,8%); успешно завершили программу реабилитации 71,6% (2022 г. – 75,6%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оля включенных в амбулаторные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еабилитационные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ограммы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в 2023 г. –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4,37%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(2022 г. – 3,77%); успешно завершили амбулаторный этап реабилитации 50,9% (2022 г. – 60,0%) больных от числа включенных в программы;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Й ПЛАН-СХЕМА ОДНОГО ДНЯ МЕДИЦИНСКОЙ ПРОГРАММЫ РЕАБИЛИТАЦИИ В АМБУЛАТОРНЫХ УСЛОВ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66280" y="1844640"/>
            <a:ext cx="83264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ТРЕННИЙ ПРИЕМ (с 9:00 до 11:00) или ВЕЧЕРНИЙ ПРИЕМ (с 16:00 до 18:0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:00 – 10:00 (16:00 – 17:00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седа с врачо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о показаниям лечебные мероприят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0:00 – 11:00 (17:00 – 18:00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бота с психолого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психотерапевтом)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ециалистом по социальной работ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оциальным работником) в группе или индивидуаль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бота с родственниками больны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группе или индивидуально (утреннее или вечернее врем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оличество дней программы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от 20 до 32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6 месяцев, высокий УРП), от 38 до 52 (6 месяцев средний или низкий УРП), от 34 до 56 (один год), от 40 до 62 (1,5 года),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от 46 до 70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2 год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20:01:25Z</dcterms:created>
  <dc:creator>Симонов</dc:creator>
  <dc:description/>
  <dc:language>en-US</dc:language>
  <cp:lastModifiedBy>And</cp:lastModifiedBy>
  <dcterms:modified xsi:type="dcterms:W3CDTF">2024-12-03T03:03:44Z</dcterms:modified>
  <cp:revision>429</cp:revision>
  <dc:subject/>
  <dc:title>Слайд 1</dc:title>
</cp:coreProperties>
</file>