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41C-8809-4ACB-82FF-4BA0A4B2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DF1-623D-43B5-9EDB-62FD149F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7F4-410F-4300-9B16-1B84C222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ADE-A2F0-4323-B695-FB95FF7E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54B-39A7-4450-A255-BCDAFB92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3403-8549-40D5-9993-5FBE69F3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8653-469B-4482-BCA0-CCF3F4A1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151A-5F7D-4355-A0F0-74174A02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A08E-F914-412D-9DEA-253DE9B2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15E0-14E1-4E07-AA07-FE1BA0F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0EF9-E359-4A01-A208-DB492F2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DDD-2E75-4EEA-9D71-B5562187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AE8A-5F48-4DD7-9C82-36DCBA5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F63A-7E63-40FC-9414-540BA613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E44B-CC78-4B6E-A149-E8F1626E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2D99-BC6D-40AE-9CB5-5F98889E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9DC6-25A9-4FF9-92C1-DA20EFE6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D728-6E96-4C90-B02A-13453DC7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84E3-9790-4AC7-AD92-724F0209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E60C-0E01-4175-AFB0-D67ADA7E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C525-79EA-4037-80C8-285E497C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65C8-4956-4E05-B32A-167F898F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386-D636-4AF3-A3AB-44623012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469C0-D5BF-49DD-A6DA-E02236C4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0B78-6867-4280-BA9E-9FE8BDF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76C6-8F12-47DF-B786-93AADA5B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AA1F-E0D3-4087-88EB-F054BDB5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BA69-844B-4BBD-9629-B79658A9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D494-6480-49D1-98DC-DB4DA3FE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0CB4-75D6-4A5A-A5F7-9E795818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BC4-E021-4CC5-BC1A-B02B513E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851-BDE4-4237-93D1-B67ABB4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8CC-1348-41C5-B51F-BB7D157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647-468A-404F-8DAE-216D5169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923-68E4-4AB7-94E5-F0191BA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E03-71CE-465F-87C0-12F6FCEB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4896-BB51-4DBB-B88D-6B5E6507FD8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1770-6A63-4C77-A7A7-490D7475030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B53-E87C-4222-83E8-9E9F04557D8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1189080" y="1255680"/>
            <a:ext cx="7954920" cy="535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498600" y="0"/>
            <a:ext cx="1912680" cy="2852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6072120" y="428760"/>
            <a:ext cx="2671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596960"/>
          </a:xfrm>
          <a:prstGeom prst="rect">
            <a:avLst/>
          </a:prstGeom>
          <a:ln w="0">
            <a:noFill/>
          </a:ln>
        </p:spPr>
      </p:pic>
      <p:pic>
        <p:nvPicPr>
          <p:cNvPr id="127" name="Объект 3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48664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53880" y="1805040"/>
          <a:ext cx="8466120" cy="4781520"/>
        </p:xfrm>
        <a:graphic>
          <a:graphicData uri="http://schemas.openxmlformats.org/drawingml/2006/table">
            <a:tbl>
              <a:tblPr/>
              <a:tblGrid>
                <a:gridCol w="4175280"/>
                <a:gridCol w="1879560"/>
                <a:gridCol w="808200"/>
                <a:gridCol w="1603080"/>
              </a:tblGrid>
              <a:tr h="198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основе какой информации у Вас сложилось мнение о наркомании в нашей стран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намика к 2022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личного опы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‑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опыта друзей, знакомы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5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информации в СМИ, сети Интер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‑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61960"/>
          </a:xfrm>
          <a:prstGeom prst="rect">
            <a:avLst/>
          </a:prstGeom>
          <a:ln w="0">
            <a:noFill/>
          </a:ln>
        </p:spPr>
      </p:pic>
      <p:pic>
        <p:nvPicPr>
          <p:cNvPr id="131" name="Объект 3" descr=""/>
          <p:cNvPicPr/>
          <p:nvPr/>
        </p:nvPicPr>
        <p:blipFill>
          <a:blip r:embed="rId2"/>
          <a:stretch/>
        </p:blipFill>
        <p:spPr>
          <a:xfrm>
            <a:off x="677880" y="1700280"/>
            <a:ext cx="77882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133" name="Объект 3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9865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513080"/>
          </a:xfrm>
          <a:prstGeom prst="rect">
            <a:avLst/>
          </a:prstGeom>
          <a:ln w="0">
            <a:noFill/>
          </a:ln>
        </p:spPr>
      </p:pic>
      <p:pic>
        <p:nvPicPr>
          <p:cNvPr id="135" name="Объект 3" descr=""/>
          <p:cNvPicPr/>
          <p:nvPr/>
        </p:nvPicPr>
        <p:blipFill>
          <a:blip r:embed="rId2"/>
          <a:stretch/>
        </p:blipFill>
        <p:spPr>
          <a:xfrm>
            <a:off x="719280" y="1916280"/>
            <a:ext cx="7705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137" name="Объект 3" descr=""/>
          <p:cNvPicPr/>
          <p:nvPr/>
        </p:nvPicPr>
        <p:blipFill>
          <a:blip r:embed="rId2"/>
          <a:stretch/>
        </p:blipFill>
        <p:spPr>
          <a:xfrm>
            <a:off x="318960" y="1417680"/>
            <a:ext cx="8506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229600" cy="1736640"/>
          </a:xfrm>
          <a:prstGeom prst="rect">
            <a:avLst/>
          </a:prstGeom>
          <a:ln w="0">
            <a:noFill/>
          </a:ln>
        </p:spPr>
      </p:pic>
      <p:pic>
        <p:nvPicPr>
          <p:cNvPr id="139" name="Объект 3" descr=""/>
          <p:cNvPicPr/>
          <p:nvPr/>
        </p:nvPicPr>
        <p:blipFill>
          <a:blip r:embed="rId2"/>
          <a:stretch/>
        </p:blipFill>
        <p:spPr>
          <a:xfrm>
            <a:off x="0" y="2390760"/>
            <a:ext cx="88963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35240"/>
          </a:xfrm>
          <a:prstGeom prst="rect">
            <a:avLst/>
          </a:prstGeom>
          <a:ln w="0">
            <a:noFill/>
          </a:ln>
        </p:spPr>
      </p:pic>
      <p:pic>
        <p:nvPicPr>
          <p:cNvPr id="141" name="Объект 3" descr=""/>
          <p:cNvPicPr/>
          <p:nvPr/>
        </p:nvPicPr>
        <p:blipFill>
          <a:blip r:embed="rId2"/>
          <a:stretch/>
        </p:blipFill>
        <p:spPr>
          <a:xfrm>
            <a:off x="250920" y="2629080"/>
            <a:ext cx="86421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02:16Z</dcterms:created>
  <dc:creator>XTreme</dc:creator>
  <dc:description/>
  <dc:language>en-US</dc:language>
  <cp:lastModifiedBy>Asus</cp:lastModifiedBy>
  <cp:lastPrinted>2019-11-20T09:53:16Z</cp:lastPrinted>
  <dcterms:modified xsi:type="dcterms:W3CDTF">2024-12-03T09:48:12Z</dcterms:modified>
  <cp:revision>120</cp:revision>
  <dc:subject/>
  <dc:title>Социология отклоняющегося поведения и социальный контроль</dc:title>
</cp:coreProperties>
</file>